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65C75-DE0F-4CF9-A2D4-94EA598C2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FC90A-6225-459A-9BF2-579C4BE47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2C848-A6F0-4918-AB46-240354ABF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05149-07E3-48DA-B9CC-C11D3FCC4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2B716-C98D-48EE-B653-F3F8C84F6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4CC4D-23AB-4FFB-99F2-45C15C835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9B534-693C-45F1-BAAC-BD4B144F0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AD5F4-3997-47C0-BD8D-77ED395FA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F7970-4F35-4492-9718-910304F9E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90E21-079F-4C4B-8773-BCF96648C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E2F35-F282-4C04-B2E2-9F478CC4D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924B9-86CB-4064-9B34-0EA16801F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AE2BB-FEEB-4BF4-A475-212FC884CF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800" spc="-1" strike="noStrike">
                <a:solidFill>
                  <a:srgbClr val="000000"/>
                </a:solidFill>
                <a:latin typeface="Lucida Calligraphy"/>
              </a:rPr>
              <a:t>Les provinces </a:t>
            </a:r>
            <a:br>
              <a:rPr sz="4800"/>
            </a:br>
            <a:r>
              <a:rPr b="1" lang="fr-CA" sz="4000" spc="-1" strike="noStrike">
                <a:solidFill>
                  <a:srgbClr val="000000"/>
                </a:solidFill>
                <a:latin typeface="Lucida Calligraphy"/>
              </a:rPr>
              <a:t>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800" spc="-1" strike="noStrike">
                <a:solidFill>
                  <a:srgbClr val="000000"/>
                </a:solidFill>
                <a:latin typeface="Lucida Calligraphy"/>
              </a:rPr>
              <a:t>les territoir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600" spc="-1" strike="noStrike">
                <a:solidFill>
                  <a:srgbClr val="000000"/>
                </a:solidFill>
                <a:latin typeface="Lucida Calligraphy"/>
              </a:rPr>
              <a:t>du</a:t>
            </a:r>
            <a:r>
              <a:rPr b="1" lang="fr-CA" sz="4800" spc="-1" strike="noStrike">
                <a:solidFill>
                  <a:srgbClr val="000000"/>
                </a:solidFill>
                <a:latin typeface="Lucida Calligraphy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800" spc="-1" strike="noStrike">
                <a:solidFill>
                  <a:srgbClr val="000000"/>
                </a:solidFill>
                <a:latin typeface="Lucida Calligraphy"/>
              </a:rPr>
              <a:t>Canad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ree"/>
          <p:cNvSpPr/>
          <p:nvPr/>
        </p:nvSpPr>
        <p:spPr>
          <a:xfrm>
            <a:off x="3657600" y="380880"/>
            <a:ext cx="1809720" cy="1809720"/>
          </a:xfr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400" spc="-1" strike="noStrike">
                <a:solidFill>
                  <a:srgbClr val="000000"/>
                </a:solidFill>
                <a:latin typeface="Lucida Calligraphy"/>
              </a:rPr>
              <a:t>Les provinces (10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00"/>
                </a:solidFill>
                <a:latin typeface="Comic Sans MS"/>
              </a:rPr>
              <a:t>L’Île du Prince-Édou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00"/>
                </a:solidFill>
                <a:latin typeface="Comic Sans MS"/>
              </a:rPr>
              <a:t>Le Manitob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00"/>
                </a:solidFill>
                <a:latin typeface="Comic Sans MS"/>
              </a:rPr>
              <a:t>Le Québe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00"/>
                </a:solidFill>
                <a:latin typeface="Comic Sans MS"/>
              </a:rPr>
              <a:t>La Colombie-Britann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00"/>
                </a:solidFill>
                <a:latin typeface="Comic Sans MS"/>
              </a:rPr>
              <a:t>La Saskatchew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00"/>
                </a:solidFill>
                <a:latin typeface="Comic Sans MS"/>
              </a:rPr>
              <a:t>Le Nouveau-Brunsw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00"/>
                </a:solidFill>
                <a:latin typeface="Comic Sans MS"/>
              </a:rPr>
              <a:t>L’Alber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00"/>
                </a:solidFill>
                <a:latin typeface="Comic Sans MS"/>
              </a:rPr>
              <a:t>La Nouvelle-Écos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00"/>
                </a:solidFill>
                <a:latin typeface="Comic Sans MS"/>
              </a:rPr>
              <a:t>Terre-Neuve et le Labrad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00"/>
                </a:solidFill>
                <a:latin typeface="Comic Sans MS"/>
              </a:rPr>
              <a:t>L’Onta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ree"/>
          <p:cNvSpPr/>
          <p:nvPr/>
        </p:nvSpPr>
        <p:spPr>
          <a:xfrm>
            <a:off x="5791320" y="2666880"/>
            <a:ext cx="1809720" cy="1809720"/>
          </a:xfr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400" spc="-1" strike="noStrike">
                <a:solidFill>
                  <a:srgbClr val="000000"/>
                </a:solidFill>
                <a:latin typeface="Lucida Calligraphy"/>
              </a:rPr>
              <a:t>Les territoir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000000"/>
                </a:solidFill>
                <a:latin typeface="Comic Sans MS"/>
              </a:rPr>
              <a:t>Les Territoires du Nord-Ou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000000"/>
                </a:solidFill>
                <a:latin typeface="Comic Sans MS"/>
              </a:rPr>
              <a:t>Le Nunav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000000"/>
                </a:solidFill>
                <a:latin typeface="Comic Sans MS"/>
              </a:rPr>
              <a:t>Le Yuk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ree"/>
          <p:cNvSpPr/>
          <p:nvPr/>
        </p:nvSpPr>
        <p:spPr>
          <a:xfrm>
            <a:off x="3666960" y="2523960"/>
            <a:ext cx="1810080" cy="1810080"/>
          </a:xfr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000000"/>
                </a:solidFill>
                <a:latin typeface="Lucida Calligraphy"/>
              </a:rPr>
              <a:t>Le Canada</a:t>
            </a:r>
            <a:br>
              <a:rPr sz="4000"/>
            </a:br>
            <a:r>
              <a:rPr b="0" lang="fr-CA" sz="4000" spc="-1" strike="noStrike">
                <a:solidFill>
                  <a:srgbClr val="000000"/>
                </a:solidFill>
                <a:latin typeface="Lucida Calligraphy"/>
              </a:rPr>
              <a:t>Les capita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Comic Sans MS"/>
              </a:rPr>
              <a:t>Canada: Ottaw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Comic Sans MS"/>
              </a:rPr>
              <a:t>L’Île du Prince-Édouard: Charlottetow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Comic Sans MS"/>
              </a:rPr>
              <a:t>Le Manitoba: Winnipe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Comic Sans MS"/>
              </a:rPr>
              <a:t>Le Québec: Québe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Comic Sans MS"/>
              </a:rPr>
              <a:t>La Colombie-Britannique: Victo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Comic Sans MS"/>
              </a:rPr>
              <a:t>Le Yukon: Whitehor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Comic Sans MS"/>
              </a:rPr>
              <a:t>La Saskatchewan: Rég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Comic Sans MS"/>
              </a:rPr>
              <a:t>Le Nouveau-Brunswick: Frederict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Comic Sans MS"/>
              </a:rPr>
              <a:t>L’Alberta: Edmont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Comic Sans MS"/>
              </a:rPr>
              <a:t>La Nouvelle-Écosse: Halif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Comic Sans MS"/>
              </a:rPr>
              <a:t>Terre-Neuve et le Labrador: St.John’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Comic Sans MS"/>
              </a:rPr>
              <a:t>Les Territoires du Nord-Ouest: Yellowknif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Comic Sans MS"/>
              </a:rPr>
              <a:t>L’Ontario: Toro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Comic Sans MS"/>
              </a:rPr>
              <a:t>Le Nunavut: Iqalu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ree"/>
          <p:cNvSpPr/>
          <p:nvPr/>
        </p:nvSpPr>
        <p:spPr>
          <a:xfrm>
            <a:off x="6705720" y="2286000"/>
            <a:ext cx="1809720" cy="1809720"/>
          </a:xfr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1T16:14:15Z</dcterms:created>
  <dc:creator>nbdoe</dc:creator>
  <dc:description/>
  <dc:language>en-US</dc:language>
  <cp:lastModifiedBy>nbdoe</cp:lastModifiedBy>
  <dcterms:modified xsi:type="dcterms:W3CDTF">2008-10-23T15:59:14Z</dcterms:modified>
  <cp:revision>4</cp:revision>
  <dc:subject/>
  <dc:title>Les provinces  et</dc:title>
</cp:coreProperties>
</file>